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0390-12C6-4D57-A164-62B302F4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CAB-EBBC-448E-96BC-9B1097ED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F0CE-FD16-4F6B-891C-C164F510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75B3-0F00-491D-B65A-D30C0323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F4AC-3612-4E54-B285-E70D9780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42FB-1E0B-4568-A3CD-FAEB62A9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A02B-E308-402A-A128-2A857311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ABD9-83C7-4B2C-ABC8-6D2201EE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7FE7-77B1-46C3-84FE-18B81BE4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BC53-E052-4D90-A1D6-7EE3CA6F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AAA6-B827-46C8-8150-0437ABE1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5D5D-63D0-4403-8335-BA2C4F77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37B7-0037-44FE-9E66-CC754349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19B1-91DE-488F-A7BF-C920846B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90BD-E6AE-4CDE-8EBC-30529CE2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6A23-9C5E-4897-AFF1-7ECFB85E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21A1-33F2-4CCC-B5A8-FEDD1D7D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77CA-01BD-47C6-BCC7-962B3CE7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3A4-0123-49B8-A382-7263A8CC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5A9-2C6E-49A7-8A76-F4638932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2E6E-8950-4A9F-9E0C-53E7821C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CB5-0B48-4E4A-99DD-B9164196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EDFD-AA90-42E2-9C6E-C370181D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3492-5BA1-4F5F-994C-F3A9E280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B9E6-FD2B-441D-8211-14B5A6C59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D7F3-4FCB-465E-8E9C-C4C37E677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04920" y="2133720"/>
            <a:ext cx="76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y, Ecosystem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Food We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172200" y="630864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Brooks/Cole Publishing Company / I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principle gases of dry air"/>
          <p:cNvPicPr/>
          <p:nvPr/>
        </p:nvPicPr>
        <p:blipFill>
          <a:blip r:embed="rId1"/>
          <a:stretch/>
        </p:blipFill>
        <p:spPr>
          <a:xfrm>
            <a:off x="380880" y="6094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105048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ayers of the Earth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drosp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ater layer. Liquid, Ice,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thosp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arth’s crust and upper mantle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ssil fuels, minerals, soil chemic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osp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iotic &amp; abiotic fa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6172200" y="6308640"/>
            <a:ext cx="2590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14400" y="22860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arth's major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819520" y="6019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. 4–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76212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th's Life–Suppor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" descr="M04_05"/>
          <p:cNvPicPr/>
          <p:nvPr/>
        </p:nvPicPr>
        <p:blipFill>
          <a:blip r:embed="rId1"/>
          <a:stretch/>
        </p:blipFill>
        <p:spPr>
          <a:xfrm>
            <a:off x="2819520" y="1295280"/>
            <a:ext cx="5195880" cy="464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atmosphere"/>
          <p:cNvPicPr/>
          <p:nvPr/>
        </p:nvPicPr>
        <p:blipFill>
          <a:blip r:embed="rId1"/>
          <a:stretch/>
        </p:blipFill>
        <p:spPr>
          <a:xfrm>
            <a:off x="228600" y="703440"/>
            <a:ext cx="7943760" cy="54511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228600" y="685800"/>
            <a:ext cx="792468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04920" y="624852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What Sustains Life?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ergy From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–way flow of usable energy from su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feeding interaction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ing of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inual flow of matter between the nonliving environment &amp; living organisms (biogeochemical cyc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Earth to hold its atmosphere gases;  causes downward movement of matter in nutrient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M04_06"/>
          <p:cNvPicPr/>
          <p:nvPr/>
        </p:nvPicPr>
        <p:blipFill>
          <a:blip r:embed="rId1"/>
          <a:stretch/>
        </p:blipFill>
        <p:spPr>
          <a:xfrm>
            <a:off x="2971800" y="1295280"/>
            <a:ext cx="4667400" cy="46292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Energy Flow &amp; Nutrient Cycling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fe on Earth depends upon one–way flow of high–quality energy from sun &amp; cycling of crucial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nergy 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609480" y="11430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ultimate source of energy in most ecosystems is the s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M04_07"/>
          <p:cNvPicPr/>
          <p:nvPr/>
        </p:nvPicPr>
        <p:blipFill>
          <a:blip r:embed="rId1"/>
          <a:stretch/>
        </p:blipFill>
        <p:spPr>
          <a:xfrm>
            <a:off x="2209680" y="1676520"/>
            <a:ext cx="6553440" cy="50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Nutrient Cycles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tr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y atom, ion, or molecule an organism needs to live, grow, or reprodu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nutri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eded in relatively large amou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C, O, H, N, P, S, K, Ca, Mg, 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nutri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eded in relatively small amou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Na, Zn, Cu, C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trient cyc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= biogeochemical cycles) involve continual flow of nutrients from nonliving (air, water, soil, rock) to living organisms (biota) &amp; back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rient cycles driven directly or indirectly by solar radiation &amp; gr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jor cyc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hydrologic (water), carbon, oxygen, nitrogen, phosphorus and sulf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Ecosystem Concepts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arge regions characterized by a distinct climate &amp; specific life–forms, especially vegetation, adapted to the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jor bi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e grassland, temperate deciduous forest, desert, tropical rain forest, tropical deciduous forest, tropical savannah, coniferous forest, tund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quatic life z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ajor marine or freshwater portion of the bi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jor aquatic life z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kes, streams, estuaries, coastlines, coral reefs, &amp; the deep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Vocabulary for Ecosystem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tic: non–living components. Ex: water, air,sun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tic: living components   Ex: plants, animals,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phic level- feeding level for an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What is Life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istics of Li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ed of cells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karyotic or 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universal genetic code-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&amp; transform matter &amp; energy- used for for growth, survival, &amp; 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homeost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 to changes (adap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066680" y="12952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ajor components of aquatic ecosyste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44792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. 4–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M04_10"/>
          <p:cNvPicPr/>
          <p:nvPr/>
        </p:nvPicPr>
        <p:blipFill>
          <a:blip r:embed="rId1"/>
          <a:stretch/>
        </p:blipFill>
        <p:spPr>
          <a:xfrm>
            <a:off x="1447920" y="1905120"/>
            <a:ext cx="5943600" cy="40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066680" y="12952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ajor components of terrestrial ecosyste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371600" y="596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. 4–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M04_11"/>
          <p:cNvPicPr/>
          <p:nvPr/>
        </p:nvPicPr>
        <p:blipFill>
          <a:blip r:embed="rId1"/>
          <a:stretch/>
        </p:blipFill>
        <p:spPr>
          <a:xfrm>
            <a:off x="990720" y="1905120"/>
            <a:ext cx="6553080" cy="405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Factors Limiting Population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w of toler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ability of species to tolerate changes in their environment (physical or chemical factors).  Pollution, global warming, habitat loss are some concerns associated with th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ing fa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ny environmental factor that reduces survival or reproduction within a popul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predation,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ing factor princi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o much or too little of any abiotic factor can limit or prevent growth of a population, regardless if all other factors are near optimum range of toler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too much fertilizer will kill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53352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ange of Tole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09480" y="137160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e survival, growth, &amp; reproduction of organisms is determined, in part, by maximum &amp; minimum tolerance limits for physical conditions such as temperatu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6" descr="M04_12"/>
          <p:cNvPicPr/>
          <p:nvPr/>
        </p:nvPicPr>
        <p:blipFill>
          <a:blip r:embed="rId1"/>
          <a:stretch/>
        </p:blipFill>
        <p:spPr>
          <a:xfrm>
            <a:off x="838080" y="2743200"/>
            <a:ext cx="6477120" cy="3197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Key Players in Ecosystem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trophs/ producer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ir own food via photosynthesis (plants) or chemosynthesis (bacteria in thermal vents use hydrogen sulfide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) &amp; carbon diox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terotrophs/ consu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an’t make their own food, feed on other organisms or their rem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herbivores, carnivores, decomposer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Line 5"/>
          <p:cNvSpPr/>
          <p:nvPr/>
        </p:nvSpPr>
        <p:spPr>
          <a:xfrm>
            <a:off x="5638680" y="295416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5638680" y="3394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3200400" y="50767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3200400" y="551016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Key Energy Process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synthesi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hlorophyll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stor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+  6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 +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lar 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+  6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Respi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bic Respiration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ergy releasing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+  6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6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 6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 +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A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erobic Respi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 Fermentation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releasing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d by yeast and 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Categories of Consumer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ry consum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(=herbivores) feed directly on produc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ary consum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(=carnivores) feed on primary consum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tiary consum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eed only on carniv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mniv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nsumers that feed on both plants &amp; anima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veng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eed on dead organis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omposers (saprob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nsumers that complete the breakdown &amp; recycling of organic materials from the remains &amp; wastes of other organis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ritiv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eed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trit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artially decomposed organic matter, such as leaf litter &amp; animal du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Importance of Decompos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28600" y="6400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. 4–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M04_13"/>
          <p:cNvPicPr/>
          <p:nvPr/>
        </p:nvPicPr>
        <p:blipFill>
          <a:blip r:embed="rId1"/>
          <a:stretch/>
        </p:blipFill>
        <p:spPr>
          <a:xfrm>
            <a:off x="609480" y="914400"/>
            <a:ext cx="8312400" cy="5424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0492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ummary of Ecosystem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0" y="6400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. 4–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5" descr="M04_15"/>
          <p:cNvPicPr/>
          <p:nvPr/>
        </p:nvPicPr>
        <p:blipFill>
          <a:blip r:embed="rId1"/>
          <a:stretch/>
        </p:blipFill>
        <p:spPr>
          <a:xfrm>
            <a:off x="1676520" y="1147680"/>
            <a:ext cx="6476760" cy="5445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6172200" y="6308640"/>
            <a:ext cx="2590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7"/>
          <p:cNvSpPr/>
          <p:nvPr/>
        </p:nvSpPr>
        <p:spPr>
          <a:xfrm>
            <a:off x="1306440" y="304812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is Ecology?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of relationships between organisms &amp; thei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vels of organ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sphere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tic (living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abiotic factors (non-liv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system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unity + non–living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pulations of different species in give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 group of interacting individuals of sam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 (individuals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any form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d Ch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09480" y="11430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od chains are a simple food path involving a sequence of organisms, each of which is the food for the nex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0" y="6400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. 4–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" descr="M04_16"/>
          <p:cNvPicPr/>
          <p:nvPr/>
        </p:nvPicPr>
        <p:blipFill>
          <a:blip r:embed="rId1"/>
          <a:stretch/>
        </p:blipFill>
        <p:spPr>
          <a:xfrm>
            <a:off x="1447920" y="2133720"/>
            <a:ext cx="6553080" cy="434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d Web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76240" y="9144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od webs are multiple food chains that are interconnected.  More complex than food chai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12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395748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110960"/>
            <a:ext cx="7467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cological Pyramid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the flow of energy through an eco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each trophic level has a certain amount of BIOMASS (dry weight of organic ma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logical efficiency- amount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s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ergy transferred as biomass.  Usually 10% at each transf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chains and webs only have 4-5 trophic levels, because too little energy left to support top consum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60948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nergy Pyram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895480" y="6400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. 4–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990720" y="1450800"/>
            <a:ext cx="2133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nature, ecological efficiency varies from 5% to 20% energy available between successive trophic levels (95% to 80% loss). About 10% efficiency is a general ru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" descr="M04_19"/>
          <p:cNvPicPr/>
          <p:nvPr/>
        </p:nvPicPr>
        <p:blipFill>
          <a:blip r:embed="rId1"/>
          <a:stretch/>
        </p:blipFill>
        <p:spPr>
          <a:xfrm>
            <a:off x="3048120" y="1316160"/>
            <a:ext cx="5867280" cy="445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0948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other Energy Pyram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533520" y="5867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. 4–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990720" y="1450800"/>
            <a:ext cx="716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nnual pyramid of energy flow (in kilocalories per square meter per year) for an aquatic ecosystem in Silver Springs, F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7" descr="M04_20a"/>
          <p:cNvPicPr/>
          <p:nvPr/>
        </p:nvPicPr>
        <p:blipFill>
          <a:blip r:embed="rId1"/>
          <a:stretch/>
        </p:blipFill>
        <p:spPr>
          <a:xfrm>
            <a:off x="228600" y="2819520"/>
            <a:ext cx="8153280" cy="26114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8"/>
          <p:cNvSpPr/>
          <p:nvPr/>
        </p:nvSpPr>
        <p:spPr>
          <a:xfrm>
            <a:off x="3352680" y="4952880"/>
            <a:ext cx="321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More individuals can be supported at lower trophic levels. Less energy is l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0948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iomass Pyram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9" descr="biomass_pyramid"/>
          <p:cNvPicPr/>
          <p:nvPr/>
        </p:nvPicPr>
        <p:blipFill>
          <a:blip r:embed="rId1"/>
          <a:stretch/>
        </p:blipFill>
        <p:spPr>
          <a:xfrm>
            <a:off x="0" y="2133720"/>
            <a:ext cx="8937720" cy="42973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1"/>
          <p:cNvSpPr/>
          <p:nvPr/>
        </p:nvSpPr>
        <p:spPr>
          <a:xfrm>
            <a:off x="304920" y="1295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s the biomass at each trophic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60948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yramid of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838080" y="1447920"/>
            <a:ext cx="76964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yramid of numbers displays the number of individual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each leve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981080" y="1143000"/>
            <a:ext cx="4724640" cy="2286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12" descr="image: pyramid of numbers showing grass, vole, barn owl"/>
          <p:cNvPicPr/>
          <p:nvPr/>
        </p:nvPicPr>
        <p:blipFill>
          <a:blip r:embed="rId1"/>
          <a:stretch/>
        </p:blipFill>
        <p:spPr>
          <a:xfrm>
            <a:off x="2743200" y="24382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86" name="Oval 18"/>
          <p:cNvSpPr/>
          <p:nvPr/>
        </p:nvSpPr>
        <p:spPr>
          <a:xfrm>
            <a:off x="4800600" y="2514600"/>
            <a:ext cx="8380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ow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19"/>
          <p:cNvSpPr/>
          <p:nvPr/>
        </p:nvSpPr>
        <p:spPr>
          <a:xfrm>
            <a:off x="5029200" y="3429000"/>
            <a:ext cx="9907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 v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20"/>
          <p:cNvSpPr/>
          <p:nvPr/>
        </p:nvSpPr>
        <p:spPr>
          <a:xfrm>
            <a:off x="5638680" y="4191120"/>
            <a:ext cx="152424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ss pl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09480" y="-343080"/>
            <a:ext cx="77724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Primary Productivity of Ecosytem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oss primary produc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PP) is the rate at which an ecosystem's producers convert solar energy into chemical energy as bio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Net primary produc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PP) is the rate at which energy for use by consumers is stored in new bio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PP = GPP – R [rate at which producers use biomas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60948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Primary Produ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33520" y="99072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stimated annual net primary productivity of major biomes &amp; aquatic life zones, expressed as kilocalories per square meter per ye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2860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. 4–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6" descr="M04_24"/>
          <p:cNvPicPr/>
          <p:nvPr/>
        </p:nvPicPr>
        <p:blipFill>
          <a:blip r:embed="rId1"/>
          <a:stretch/>
        </p:blipFill>
        <p:spPr>
          <a:xfrm>
            <a:off x="1219320" y="2133720"/>
            <a:ext cx="6338880" cy="359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685800" y="-343080"/>
            <a:ext cx="77724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How Do Ecologists Learn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logists learn about ecosystems through a combination of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762120" y="-343080"/>
            <a:ext cx="77724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Organisms (Individuals)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s are classified into spe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groups of organisms that resemble each other, and in cases of sexually reproducing organism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 potentially interbr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s of 5 to 100 million species, most are insects &amp; microorganisms; so far only about 1.8 million named; each species is the result of long evolutionary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d or native spec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pulation that exists in its natural habita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esticated or introduced spec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population introduced by humans (= non–native spec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26"/>
          <p:cNvSpPr/>
          <p:nvPr/>
        </p:nvSpPr>
        <p:spPr>
          <a:xfrm>
            <a:off x="53352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ethods for Monitoring &amp;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28"/>
          <p:cNvSpPr/>
          <p:nvPr/>
        </p:nvSpPr>
        <p:spPr>
          <a:xfrm>
            <a:off x="228600" y="11430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technologies are enabling scientists to collect field information more effectively across broad geographic sc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031" descr="M04_26a"/>
          <p:cNvPicPr/>
          <p:nvPr/>
        </p:nvPicPr>
        <p:blipFill>
          <a:blip r:embed="rId1"/>
          <a:stretch/>
        </p:blipFill>
        <p:spPr>
          <a:xfrm>
            <a:off x="5334120" y="1922400"/>
            <a:ext cx="3124080" cy="24973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32" descr="M04_26b"/>
          <p:cNvPicPr/>
          <p:nvPr/>
        </p:nvPicPr>
        <p:blipFill>
          <a:blip r:embed="rId2"/>
          <a:stretch/>
        </p:blipFill>
        <p:spPr>
          <a:xfrm>
            <a:off x="914400" y="3200400"/>
            <a:ext cx="3200400" cy="29098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033"/>
          <p:cNvSpPr/>
          <p:nvPr/>
        </p:nvSpPr>
        <p:spPr>
          <a:xfrm>
            <a:off x="3886200" y="495288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) Geographic Information Systems (GIS) provide the computer technology for organizing, storing, and analyzing complex map da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34"/>
          <p:cNvSpPr/>
          <p:nvPr/>
        </p:nvSpPr>
        <p:spPr>
          <a:xfrm>
            <a:off x="990720" y="20574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) Remote sensing involves use of sensors to collect information about a system from a di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09480" y="-343080"/>
            <a:ext cx="81536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Ecosystem Services &amp; Sustainability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system serv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atural benefits that support life on the earth &amp; are essential to the quality of human life &amp; the functioning of the world's econom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&amp; moderate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ycle vital nutr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energy &amp; miner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nish food, fiber, medicine, timber, &amp;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inate crops &amp; useful native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rb, dilute, or detoxify pollu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populations of pests &amp; disease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 soil erosion &amp; prevent flo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iodiversity of genes &amp; spe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609480" y="-343080"/>
            <a:ext cx="81536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cosystem Services &amp; Sustainability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y is biodiversity an important ecosystem serv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ch variety of organisms provides material benefits (food, raw materials, energy, &amp; medicine), ecosystem services (purification of air &amp; water, natural pest control…), &amp; aesthetic benef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are two principles of ecosystem sustaina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natural ecosystems achieve sustainability b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using renewable solar energy as the energy source; &amp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recycling nutrients needed for survival, growth, &amp; re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609480" y="-343080"/>
            <a:ext cx="81536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cology &amp; Environmental Scienc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y is an understanding of ecology essential for environmental sci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the scientific basis for interdependence &amp; connectedness is essential for solving environmental problems &amp; ensuring sustainability of a high–quality life for humans &amp; other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Population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group of individuals of the same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unfish in a pond, white oak trees in a forest, people in a c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bi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place where a population usually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tic diver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 natural populations individuals vary in their genetic make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blue eyes vs. green 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Communiti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opulations of different species living together in a given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ological community is a complex interacting network of plants, animals and micro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dwood forest community, consisting of  populations of redwoods &amp; other trees, shrubs and herbaceous species, animals and micro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Ecosystem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mmunities &amp; the non–living parts of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cks, fish, and insect larvae living in/on a lake or p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05048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iosphere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level consisting of air, water, soil, minerals, and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earth_1_apollo17_big"/>
          <p:cNvPicPr/>
          <p:nvPr/>
        </p:nvPicPr>
        <p:blipFill>
          <a:blip r:embed="rId1"/>
          <a:stretch/>
        </p:blipFill>
        <p:spPr>
          <a:xfrm>
            <a:off x="4419720" y="2743200"/>
            <a:ext cx="322740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mosp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in layer of gases (N, O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e, Ar, etc) held close to the earth’s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oposp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atmosphere’s inner lay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itrogen &amp; Oxygen found her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 weather occurs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ntains “greenhouse” gases: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&amp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ratosp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yer above troposph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ntains ozone (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hich filters sun’s harmful UV.  Ca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sopher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bove the stra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rea where meteors burn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rmosphere (ionosphere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innest gas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urora’s take place and space shuttle orb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yers of the Earth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8T17:29:55Z</dcterms:created>
  <dc:creator>Paul Rich</dc:creator>
  <dc:description/>
  <dc:language>en-US</dc:language>
  <cp:lastModifiedBy>Lyn Clarkson</cp:lastModifiedBy>
  <dcterms:modified xsi:type="dcterms:W3CDTF">2009-08-26T00:06:08Z</dcterms:modified>
  <cp:revision>237</cp:revision>
  <dc:subject/>
  <dc:title>Ecology, Ecosystems and Food Webs</dc:title>
</cp:coreProperties>
</file>